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C98-4AF7-43B8-948F-9AA315ED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59B-B7DF-4560-AA16-011AC649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6E1-AFFA-41CF-B37A-F123C5F8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1D0-AF8E-4303-AE16-BCD26BF2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406-BE2E-45CD-A6BB-8825D0AB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86C-E833-4332-B14E-6F04E7BA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5AC-C698-4ABF-9336-EC24D134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D24A-8C59-4414-83E8-791E87DD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268-F658-4647-BD6B-F0637BCA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4E9-6EB6-41F5-BD7E-BBBAB47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AA7-B335-454F-BB94-9B4D4CA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219-E48E-4A1B-8213-D2F69895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84F1-C04A-4697-962E-ED6D12FE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2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ordered triples associated with each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by the addition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linear system in three vari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system of three equations containing x, y, and z.   It is solved by an ordered triple (x, y, z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you solve a system of three equ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pair of equations and use the addition method to eliminate on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different pair and use the addition method to eliminate the sam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system of two equations that you have found in steps 1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the values back into one of the original equations and solve for the remaining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-2y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+3z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x-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752480"/>
            <a:ext cx="3886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x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2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2z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-2y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+3z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=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(3x +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6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-5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+2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1905120"/>
            <a:ext cx="3581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(4) =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+z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-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-2y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+3z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+y+4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is (2, -1,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I get a strange ans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get answer like 0=0, then the system is 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get answer like 1=0, the system is inconsis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200320" cy="2257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2003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14:57:22Z</dcterms:created>
  <dc:creator>nuhs</dc:creator>
  <dc:description/>
  <dc:language>en-US</dc:language>
  <cp:lastModifiedBy>nuhs</cp:lastModifiedBy>
  <dcterms:modified xsi:type="dcterms:W3CDTF">2007-10-22T20:15:23Z</dcterms:modified>
  <cp:revision>7</cp:revision>
  <dc:subject/>
  <dc:title>Algebra 2A</dc:title>
</cp:coreProperties>
</file>